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8C9-D8EB-47C4-8313-810A72EE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0C2-7E91-4F31-BE58-9156ACC1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B6D-470C-46B3-BBAB-CF04ABE3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7AE-234D-4999-AA72-CAF7D96D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2B5-DACD-4186-B8CD-EB32D79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6E2-C72A-463B-A76F-BDE7C0D6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1FC-725B-4552-A56F-31F22A47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500-6C83-429B-8652-AFD95DC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7C2-9254-4D2D-8B6C-A6CB9C6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FEF-9F17-4346-B55F-EA3A64A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F05-43F7-4E3D-BB28-FDE4CCE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417-C8B6-4BDD-8B13-F0BC741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537-F862-4C94-A19A-022DFB110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6280" y="151920"/>
            <a:ext cx="7158240" cy="17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M </a:t>
            </a:r>
            <a:r>
              <a:rPr b="1" lang="en-US" sz="4400" spc="-1" strike="noStrike">
                <a:solidFill>
                  <a:srgbClr val="3333ff"/>
                </a:solidFill>
                <a:latin typeface="Tahoma"/>
              </a:rPr>
              <a:t>Seven-Step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Review Proce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49320" y="1928520"/>
            <a:ext cx="7966080" cy="43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1. Collecting the Da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2. First Read-Throug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3. Small Like/Mixed-Group Revie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4. Large Like/Mixed-Group Comparis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5. Determine Immediate Revision Poi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6. Determine Points Requiring Some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       </a:t>
            </a: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Research and Plan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7. Plan for Next Review Cyc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rom Mapping the Big Picture: Integrating Curriculum and Assessment K-12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97, ASCD, Jacobs, HH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6286680" y="357120"/>
          <a:ext cx="2428560" cy="23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357120"/>
                    <a:ext cx="242856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0:04:29Z</dcterms:created>
  <dc:creator>Ann Johnson</dc:creator>
  <dc:description/>
  <dc:language>en-US</dc:language>
  <cp:lastModifiedBy>Ann</cp:lastModifiedBy>
  <dcterms:modified xsi:type="dcterms:W3CDTF">2009-11-24T15:28:38Z</dcterms:modified>
  <cp:revision>1</cp:revision>
  <dc:subject/>
  <dc:title>The CM Seven-Step                Review Process:</dc:title>
</cp:coreProperties>
</file>